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218D-85C9-40D6-B01E-DBC72ABE9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DE42-9775-4A35-8483-B6AA51C3C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ACAE-C269-4297-AB68-2FD265E3E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989D-BDC1-4E63-810F-00D770B10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35F-D2C3-414B-ABEC-43885D747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8A2-2F55-40E1-A674-2441EA2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89A-949A-4C02-A336-2F9B377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890-D0A2-4232-BE79-F7CB262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F4-9A8E-421D-AF17-EE6D403C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55F-5CCB-43D6-BBB5-F6F136D3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DBB-0335-4365-BADB-019A82E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EC02-3C62-42DB-A334-015BCCE6D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A1E-A81B-4302-8703-438C0858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72C-C326-42AB-B198-FD2F71B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D79-080D-4ABF-B9CF-F4E2FB6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615-1011-42B5-94A2-E451747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0CA-F909-4138-AD49-34627908E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A923-F67D-4893-B594-048814FAA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AAA0-9B48-408E-A938-580E335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327A8-FECA-45A5-9D20-EF4DDCF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D7137-D54B-4CCF-B316-938B6DFD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3D23-75E8-4F6C-8E3F-FF855830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EE31-3C1F-41B0-B142-273345EAE1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AFE8-D65C-40EA-9C9A-5C8E46FE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BAD28-21D8-4EA6-96D1-2DDE5E1F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EE0A4-074E-4736-BC53-1E1ABFC8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4A98-6496-44F2-AF1B-30DF442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4C54-5FAE-4BBF-A842-235FDAC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5AB41-2BE8-476F-9CAA-CC853B4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7232-5024-4B07-88AC-7C1B597D2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BFD7-A35C-4EDF-A594-197E22DCD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45F1-2C9D-4EB1-9600-FFD9995CB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F114-64E3-4328-83FA-BBEFC860E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364B-5CA1-4EB2-990E-48F812E2C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8C24-6DEB-4FB8-8981-70C94CBDF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4A17-3B6A-471F-9F52-4D3BB6198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838080" y="6356520"/>
            <a:ext cx="957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0609200" y="6356160"/>
            <a:ext cx="741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0BE98-9316-45D1-8C31-EE47414C7F34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626840" y="115920"/>
            <a:ext cx="1422360" cy="14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10626840" y="115920"/>
            <a:ext cx="1422360" cy="1407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816120" y="6356520"/>
            <a:ext cx="957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10609200" y="6356160"/>
            <a:ext cx="741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6BDF0D8-49D7-4E95-AA65-B6F49CFAC562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10626840" y="115920"/>
            <a:ext cx="1422360" cy="14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38080" y="6356520"/>
            <a:ext cx="957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5"/>
          </p:nvPr>
        </p:nvSpPr>
        <p:spPr>
          <a:xfrm>
            <a:off x="10609200" y="6356160"/>
            <a:ext cx="741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DAA255F-5BB5-4520-A650-2528E649B545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224000" y="431640"/>
            <a:ext cx="885672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4076640" y="6335640"/>
            <a:ext cx="3987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Ing. Sergio INZERILLO – Comandante VV.F.  CASERT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944720" y="1368360"/>
            <a:ext cx="42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IL CODICE E'  VERA NOVITA'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016000" y="2376360"/>
            <a:ext cx="6710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E' UN VERO CAMBIAMENTO RADICALE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- centralità della valutazione del RISCHIO INCENDI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- totale flessibilità progettu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024360" y="792000"/>
            <a:ext cx="4679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311640" y="576360"/>
            <a:ext cx="53276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911160" y="792000"/>
            <a:ext cx="974412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936720" y="216000"/>
            <a:ext cx="8589960" cy="61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914400" y="122400"/>
            <a:ext cx="9637560" cy="571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82600" y="5835600"/>
            <a:ext cx="91328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9561600" y="5052960"/>
            <a:ext cx="236988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95440" y="1511280"/>
            <a:ext cx="1020420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93760" y="1465200"/>
            <a:ext cx="11228400" cy="528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8T11:00:35Z</dcterms:created>
  <dc:creator>Salvatore Longobardo</dc:creator>
  <dc:description/>
  <dc:language>en-US</dc:language>
  <cp:lastModifiedBy>Sergio Inzerillo</cp:lastModifiedBy>
  <dcterms:modified xsi:type="dcterms:W3CDTF">2019-06-20T09:26:48Z</dcterms:modified>
  <cp:revision>9</cp:revision>
  <dc:subject/>
  <dc:title>Presentazione standard di PowerPoint</dc:title>
</cp:coreProperties>
</file>