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6.png" ContentType="image/png"/>
  <Override PartName="/ppt/media/image14.wmf" ContentType="image/x-wmf"/>
  <Override PartName="/ppt/media/image11.png" ContentType="image/png"/>
  <Override PartName="/ppt/media/image29.wmf" ContentType="image/x-wmf"/>
  <Override PartName="/ppt/media/image31.wmf" ContentType="image/x-wmf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7.wmf" ContentType="image/x-wmf"/>
  <Override PartName="/ppt/media/image12.png" ContentType="image/png"/>
  <Override PartName="/ppt/media/image3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28.wmf" ContentType="image/x-wmf"/>
  <Override PartName="/ppt/media/image3.png" ContentType="image/png"/>
  <Override PartName="/ppt/media/image26.png" ContentType="image/png"/>
  <Override PartName="/ppt/media/image2.png" ContentType="image/png"/>
  <Override PartName="/ppt/media/image10.png" ContentType="image/png"/>
  <Override PartName="/ppt/media/image1.jpeg" ContentType="image/jpeg"/>
  <Override PartName="/ppt/media/image15.png" ContentType="image/png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F1B9-1BD3-4C54-BFF4-6F0437C6AA8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2923-B505-42CE-A20D-9E4B7263E0A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3881520" y="868536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BAFC3761-5BB0-4339-B711-D50A2288B7E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15D5FEDB-B441-4DEF-B425-D268DDC84B8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3CDE-42D2-41A4-985D-642095B1424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3881520" y="868536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A133B2D1-872E-429A-A23D-1D4C75DEDB4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D0BA7BA0-3FD8-4730-8391-CBEBEA850AB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7FC8-E311-4808-98BF-F5E25AB30FE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3881520" y="868536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3D36869E-832A-4372-B395-B167A3898E6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9CA21188-B854-47F6-9B8B-949E91A8EF7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6BF9-BD74-48A3-93EB-6AEAD096FBC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3881520" y="868536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DAE7073A-B9A8-4466-B08B-65AE27ECF1F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31AC33D0-31D9-48E9-9E95-8409A1FA4D2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A16E-F4EA-4DE3-9549-906711F24D2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3881520" y="868536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17A70927-1DA2-40F3-B98D-B54BC1AC1D37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CEF6616B-E64D-4ABA-B765-C4361651B1C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AAB0-CA1C-437B-BFD8-974326D8482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3881520" y="868536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0B32B090-EAC4-4581-879E-9856CEB66CCD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7DBF0313-F29B-4DA9-A332-3520735B5B5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200B-482C-43D3-8A9F-404569FF94D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3881520" y="868536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568B50EC-6D1A-42A8-B55B-299D2C5FB3B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B392DAD8-6F8E-47B2-8036-DA9D134BBE3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4995-F208-4671-9097-7CE8BDC6E26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3881520" y="868536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BDD24ED0-5894-47A3-89C2-130AD37981D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02D4A7A1-2411-4D9A-BC67-71596839461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B687-0F83-4BA5-A9F7-0E614F6E1BE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881520" y="868536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9566C49F-995E-4B27-B900-620377B744E4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B9E58034-6C5A-4684-B167-34B0A057B42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ECA6-A0E2-48F4-81B1-058B23CD78E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881520" y="868536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8DDF2927-8C21-4C4F-9260-67E053C2D09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6BEF7493-C85B-4957-B98B-FB3E41C95A4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3888-0DE0-4D36-A36D-4A6AA212165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3881520" y="868536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6C6B3F8E-4B2F-40C3-85C4-7D00B9C3514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75E88D03-7C27-4A96-B3A9-CF167212D19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B584-645D-44DC-A723-6CD25078CA3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3881520" y="868536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EA45AE59-66DF-406B-8843-B2BC5374879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EF1D418E-7884-4120-A01E-FE6DE151792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4975-61B1-45B1-BF09-61739072DB0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3881520" y="868536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0651667D-8546-47D5-95F7-F9FC146C3104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89108955-FFCC-4406-973D-B5B20F656B7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688E-5FE1-4846-98F7-EAB4BE434FA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3881520" y="868536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030A9B13-1DB3-4A19-B993-864FF94216E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D9CECC30-DE79-42BC-B5AB-0F150F298A3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0E47-3177-4993-9A16-941C27AD93E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3881520" y="868536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CD4F09CD-3C25-4689-9F62-298B2786886D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4080"/>
                <a:tab algn="l" pos="1179360"/>
                <a:tab algn="l" pos="1574640"/>
                <a:tab algn="l" pos="1967040"/>
                <a:tab algn="l" pos="2362320"/>
                <a:tab algn="l" pos="2754360"/>
                <a:tab algn="l" pos="3147840"/>
                <a:tab algn="l" pos="3543480"/>
                <a:tab algn="l" pos="3935520"/>
                <a:tab algn="l" pos="4329000"/>
                <a:tab algn="l" pos="4724280"/>
                <a:tab algn="l" pos="5118120"/>
                <a:tab algn="l" pos="5511960"/>
                <a:tab algn="l" pos="59072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1ACFEE26-6A4B-463A-8467-CF3A57EFB8E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595-5F7D-47BA-BF21-027583DD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9CA-ACE9-4286-9274-D5578476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BF3-377B-4AAD-8987-E4EF6AFD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6A3-F056-40BF-990F-C1238230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091-5588-42C9-87A2-2B7647D1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6F2-698F-4F3C-8349-56F798E7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99A-CDB3-4284-8AE9-F6DA739C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26A-E62E-444A-A0CD-92F5021C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C49-B057-42C1-9EB1-B2B3AD3F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C57-F8E7-4B32-9788-B53FE37B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01F-C1DE-4C54-9563-479EF1D3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3B66-1E7F-4050-B41F-FF0E003F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" name="Group 13"/>
          <p:cNvGrpSpPr/>
          <p:nvPr/>
        </p:nvGrpSpPr>
        <p:grpSpPr>
          <a:xfrm>
            <a:off x="0" y="6156360"/>
            <a:ext cx="9905760" cy="765000"/>
            <a:chOff x="0" y="6156360"/>
            <a:chExt cx="9905760" cy="765000"/>
          </a:xfrm>
        </p:grpSpPr>
        <p:sp>
          <p:nvSpPr>
            <p:cNvPr id="38" name="Rectangle 11"/>
            <p:cNvSpPr/>
            <p:nvPr/>
          </p:nvSpPr>
          <p:spPr>
            <a:xfrm>
              <a:off x="0" y="6227640"/>
              <a:ext cx="9905760" cy="620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" name="Picture 9" descr=""/>
            <p:cNvPicPr/>
            <p:nvPr/>
          </p:nvPicPr>
          <p:blipFill>
            <a:blip r:embed="rId3"/>
            <a:stretch/>
          </p:blipFill>
          <p:spPr>
            <a:xfrm>
              <a:off x="235440" y="6156360"/>
              <a:ext cx="81684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" name="Picture 10" descr=""/>
            <p:cNvPicPr/>
            <p:nvPr/>
          </p:nvPicPr>
          <p:blipFill>
            <a:blip r:embed="rId4"/>
            <a:stretch/>
          </p:blipFill>
          <p:spPr>
            <a:xfrm>
              <a:off x="8385840" y="6345000"/>
              <a:ext cx="1394640" cy="42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Rectangle 12"/>
            <p:cNvSpPr/>
            <p:nvPr/>
          </p:nvSpPr>
          <p:spPr>
            <a:xfrm>
              <a:off x="0" y="6314760"/>
              <a:ext cx="99057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ero dell’Interno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partimento dei Vigili del Fuoco, del Soccorso Pubblico e della Difesa Civile</a:t>
              </a:r>
              <a:br>
                <a:rPr sz="800"/>
              </a:b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omando Vigili del fuoco AVELLI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elmoblu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0"/>
          <p:cNvGrpSpPr/>
          <p:nvPr/>
        </p:nvGrpSpPr>
        <p:grpSpPr>
          <a:xfrm>
            <a:off x="0" y="6165720"/>
            <a:ext cx="9905760" cy="765360"/>
            <a:chOff x="0" y="6165720"/>
            <a:chExt cx="9905760" cy="765360"/>
          </a:xfrm>
        </p:grpSpPr>
        <p:sp>
          <p:nvSpPr>
            <p:cNvPr id="80" name="Rectangle 21"/>
            <p:cNvSpPr/>
            <p:nvPr/>
          </p:nvSpPr>
          <p:spPr>
            <a:xfrm>
              <a:off x="0" y="6237360"/>
              <a:ext cx="9905760" cy="620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22" descr=""/>
            <p:cNvPicPr/>
            <p:nvPr/>
          </p:nvPicPr>
          <p:blipFill>
            <a:blip r:embed="rId3"/>
            <a:stretch/>
          </p:blipFill>
          <p:spPr>
            <a:xfrm>
              <a:off x="235440" y="6165720"/>
              <a:ext cx="81684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3" descr=""/>
            <p:cNvPicPr/>
            <p:nvPr/>
          </p:nvPicPr>
          <p:blipFill>
            <a:blip r:embed="rId4"/>
            <a:stretch/>
          </p:blipFill>
          <p:spPr>
            <a:xfrm>
              <a:off x="8385840" y="6354720"/>
              <a:ext cx="139464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24"/>
            <p:cNvSpPr/>
            <p:nvPr/>
          </p:nvSpPr>
          <p:spPr>
            <a:xfrm>
              <a:off x="0" y="6324480"/>
              <a:ext cx="99057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ero dell’Interno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partimento dei Vigili del Fuoco, del Soccorso Pubblico e della Difesa Civile</a:t>
              </a:r>
              <a:br>
                <a:rPr sz="800"/>
              </a:b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omando Vigili del Fuoco AVELLI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dt" idx="1"/>
          </p:nvPr>
        </p:nvSpPr>
        <p:spPr>
          <a:xfrm>
            <a:off x="108000" y="70920"/>
            <a:ext cx="219384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2"/>
          </p:nvPr>
        </p:nvSpPr>
        <p:spPr>
          <a:xfrm>
            <a:off x="2195640" y="70920"/>
            <a:ext cx="468144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87640" y="70920"/>
            <a:ext cx="265284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5572-6023-45EB-BE6F-5924466C4CC2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611280" y="333360"/>
            <a:ext cx="8812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M 3/8/2015 e s.m.i.</a:t>
            </a:r>
            <a:br>
              <a:rPr sz="28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L NUOVO 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CODICE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DI PREVENZIONE INCENDI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rev. 248</a:t>
            </a:r>
            <a:br>
              <a:rPr sz="2800"/>
            </a:b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S04 - </a:t>
            </a:r>
            <a:r>
              <a:rPr b="0" lang="it-IT" sz="4000" spc="-1" strike="noStrike">
                <a:solidFill>
                  <a:srgbClr val="ff0000"/>
                </a:solidFill>
                <a:latin typeface="Calibri"/>
              </a:rPr>
              <a:t>Eso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sellaDiTesto 1"/>
          <p:cNvSpPr/>
          <p:nvPr/>
        </p:nvSpPr>
        <p:spPr>
          <a:xfrm>
            <a:off x="3048120" y="4630680"/>
            <a:ext cx="38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ott. ing. Luca Pont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mando VV.F. AVELL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aserta, 20 giugno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magine 3" descr=""/>
          <p:cNvPicPr/>
          <p:nvPr/>
        </p:nvPicPr>
        <p:blipFill>
          <a:blip r:embed="rId1"/>
          <a:stretch/>
        </p:blipFill>
        <p:spPr>
          <a:xfrm>
            <a:off x="165240" y="112680"/>
            <a:ext cx="2181240" cy="695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Immagine 4" descr="Risultati immagini per logo vvf"/>
          <p:cNvPicPr/>
          <p:nvPr/>
        </p:nvPicPr>
        <p:blipFill>
          <a:blip r:embed="rId2"/>
          <a:stretch/>
        </p:blipFill>
        <p:spPr>
          <a:xfrm>
            <a:off x="9072720" y="112680"/>
            <a:ext cx="701640" cy="695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7600" y="66600"/>
            <a:ext cx="89154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RGHEZZE MINIM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(S.4.8.7 e S.4.8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Immagine 1" descr=""/>
          <p:cNvPicPr/>
          <p:nvPr/>
        </p:nvPicPr>
        <p:blipFill>
          <a:blip r:embed="rId1"/>
          <a:stretch/>
        </p:blipFill>
        <p:spPr>
          <a:xfrm>
            <a:off x="1360440" y="885960"/>
            <a:ext cx="7210440" cy="2943000"/>
          </a:xfrm>
          <a:prstGeom prst="rect">
            <a:avLst/>
          </a:prstGeom>
          <a:ln w="0">
            <a:noFill/>
          </a:ln>
        </p:spPr>
      </p:pic>
      <p:pic>
        <p:nvPicPr>
          <p:cNvPr id="165" name="Immagine 2" descr=""/>
          <p:cNvPicPr/>
          <p:nvPr/>
        </p:nvPicPr>
        <p:blipFill>
          <a:blip r:embed="rId2"/>
          <a:stretch/>
        </p:blipFill>
        <p:spPr>
          <a:xfrm>
            <a:off x="1338120" y="4021200"/>
            <a:ext cx="7232760" cy="2100240"/>
          </a:xfrm>
          <a:prstGeom prst="rect">
            <a:avLst/>
          </a:prstGeom>
          <a:ln w="0">
            <a:noFill/>
          </a:ln>
        </p:spPr>
      </p:pic>
      <p:pic>
        <p:nvPicPr>
          <p:cNvPr id="166" name="CasellaDiTesto 7" descr=""/>
          <p:cNvPicPr/>
          <p:nvPr/>
        </p:nvPicPr>
        <p:blipFill>
          <a:blip r:embed="rId3"/>
          <a:stretch/>
        </p:blipFill>
        <p:spPr>
          <a:xfrm>
            <a:off x="701640" y="969840"/>
            <a:ext cx="511200" cy="2779920"/>
          </a:xfrm>
          <a:prstGeom prst="rect">
            <a:avLst/>
          </a:prstGeom>
          <a:ln w="0">
            <a:noFill/>
          </a:ln>
        </p:spPr>
      </p:pic>
      <p:pic>
        <p:nvPicPr>
          <p:cNvPr id="167" name="CasellaDiTesto 8" descr=""/>
          <p:cNvPicPr/>
          <p:nvPr/>
        </p:nvPicPr>
        <p:blipFill>
          <a:blip r:embed="rId4"/>
          <a:stretch/>
        </p:blipFill>
        <p:spPr>
          <a:xfrm>
            <a:off x="682560" y="3676680"/>
            <a:ext cx="506520" cy="2681280"/>
          </a:xfrm>
          <a:prstGeom prst="rect">
            <a:avLst/>
          </a:prstGeom>
          <a:ln w="0">
            <a:noFill/>
          </a:ln>
        </p:spPr>
      </p:pic>
      <p:sp>
        <p:nvSpPr>
          <p:cNvPr id="168" name="Rettangolo 1"/>
          <p:cNvSpPr/>
          <p:nvPr/>
        </p:nvSpPr>
        <p:spPr>
          <a:xfrm>
            <a:off x="1406520" y="2075040"/>
            <a:ext cx="7088040" cy="66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600" y="66600"/>
            <a:ext cx="89154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RGHEZZE MINIME: ESEMPIO V.E.O.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(Tab. S.4.3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Immagine 5" descr=""/>
          <p:cNvPicPr/>
          <p:nvPr/>
        </p:nvPicPr>
        <p:blipFill>
          <a:blip r:embed="rId1"/>
          <a:srcRect l="0" t="0" r="50061" b="25767"/>
          <a:stretch/>
        </p:blipFill>
        <p:spPr>
          <a:xfrm>
            <a:off x="6203880" y="1650960"/>
            <a:ext cx="3611520" cy="1347840"/>
          </a:xfrm>
          <a:prstGeom prst="rect">
            <a:avLst/>
          </a:prstGeom>
          <a:ln w="0">
            <a:noFill/>
          </a:ln>
        </p:spPr>
      </p:pic>
      <p:pic>
        <p:nvPicPr>
          <p:cNvPr id="171" name="Immagine 12" descr=""/>
          <p:cNvPicPr/>
          <p:nvPr/>
        </p:nvPicPr>
        <p:blipFill>
          <a:blip r:embed="rId2"/>
          <a:srcRect l="49831" t="0" r="0" b="26422"/>
          <a:stretch/>
        </p:blipFill>
        <p:spPr>
          <a:xfrm>
            <a:off x="6203880" y="3286080"/>
            <a:ext cx="3629160" cy="1335240"/>
          </a:xfrm>
          <a:prstGeom prst="rect">
            <a:avLst/>
          </a:prstGeom>
          <a:ln w="0">
            <a:noFill/>
          </a:ln>
        </p:spPr>
      </p:pic>
      <p:pic>
        <p:nvPicPr>
          <p:cNvPr id="172" name="Immagine 13" descr=""/>
          <p:cNvPicPr/>
          <p:nvPr/>
        </p:nvPicPr>
        <p:blipFill>
          <a:blip r:embed="rId3"/>
          <a:stretch/>
        </p:blipFill>
        <p:spPr>
          <a:xfrm>
            <a:off x="58680" y="963720"/>
            <a:ext cx="6161040" cy="48736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600" y="66600"/>
            <a:ext cx="89154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RT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(S.4.5.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Immagine 3" descr=""/>
          <p:cNvPicPr/>
          <p:nvPr/>
        </p:nvPicPr>
        <p:blipFill>
          <a:blip r:embed="rId1"/>
          <a:srcRect l="0" t="0" r="0" b="50519"/>
          <a:stretch/>
        </p:blipFill>
        <p:spPr>
          <a:xfrm>
            <a:off x="1168560" y="3500280"/>
            <a:ext cx="7594560" cy="22813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75" name="Immagine 4" descr=""/>
          <p:cNvPicPr/>
          <p:nvPr/>
        </p:nvPicPr>
        <p:blipFill>
          <a:blip r:embed="rId2"/>
          <a:stretch/>
        </p:blipFill>
        <p:spPr>
          <a:xfrm>
            <a:off x="1168560" y="961920"/>
            <a:ext cx="7594560" cy="2232000"/>
          </a:xfrm>
          <a:prstGeom prst="rect">
            <a:avLst/>
          </a:prstGeom>
          <a:ln w="0">
            <a:noFill/>
          </a:ln>
        </p:spPr>
      </p:pic>
      <p:pic>
        <p:nvPicPr>
          <p:cNvPr id="176" name="CasellaDiTesto 9" descr=""/>
          <p:cNvPicPr/>
          <p:nvPr/>
        </p:nvPicPr>
        <p:blipFill>
          <a:blip r:embed="rId3"/>
          <a:stretch/>
        </p:blipFill>
        <p:spPr>
          <a:xfrm>
            <a:off x="706320" y="738360"/>
            <a:ext cx="513000" cy="2681280"/>
          </a:xfrm>
          <a:prstGeom prst="rect">
            <a:avLst/>
          </a:prstGeom>
          <a:ln w="0">
            <a:noFill/>
          </a:ln>
        </p:spPr>
      </p:pic>
      <p:pic>
        <p:nvPicPr>
          <p:cNvPr id="177" name="CasellaDiTesto 10" descr=""/>
          <p:cNvPicPr/>
          <p:nvPr/>
        </p:nvPicPr>
        <p:blipFill>
          <a:blip r:embed="rId4"/>
          <a:stretch/>
        </p:blipFill>
        <p:spPr>
          <a:xfrm>
            <a:off x="706320" y="3193920"/>
            <a:ext cx="51300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600" y="66600"/>
            <a:ext cx="89154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RTE: UN ESEMPIO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(S.4.5.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Immagine 1" descr=""/>
          <p:cNvPicPr/>
          <p:nvPr/>
        </p:nvPicPr>
        <p:blipFill>
          <a:blip r:embed="rId1"/>
          <a:stretch/>
        </p:blipFill>
        <p:spPr>
          <a:xfrm>
            <a:off x="420840" y="1417680"/>
            <a:ext cx="9090000" cy="2259000"/>
          </a:xfrm>
          <a:prstGeom prst="rect">
            <a:avLst/>
          </a:prstGeom>
          <a:ln w="0">
            <a:noFill/>
          </a:ln>
        </p:spPr>
      </p:pic>
      <p:pic>
        <p:nvPicPr>
          <p:cNvPr id="180" name="Immagine 2" descr=""/>
          <p:cNvPicPr/>
          <p:nvPr/>
        </p:nvPicPr>
        <p:blipFill>
          <a:blip r:embed="rId2"/>
          <a:stretch/>
        </p:blipFill>
        <p:spPr>
          <a:xfrm>
            <a:off x="2300400" y="4638600"/>
            <a:ext cx="7210440" cy="13971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81" name="CasellaDiTesto 8"/>
          <p:cNvSpPr/>
          <p:nvPr/>
        </p:nvSpPr>
        <p:spPr>
          <a:xfrm>
            <a:off x="7650000" y="433548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EM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7600" y="66600"/>
            <a:ext cx="89154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ODO PER ATTIVITÀ ALL’APERTO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(S.4.5.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Immagine 1" descr=""/>
          <p:cNvPicPr/>
          <p:nvPr/>
        </p:nvPicPr>
        <p:blipFill>
          <a:blip r:embed="rId1"/>
          <a:stretch/>
        </p:blipFill>
        <p:spPr>
          <a:xfrm>
            <a:off x="905040" y="2674800"/>
            <a:ext cx="8121600" cy="3470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84" name="Immagine 1" descr=""/>
          <p:cNvPicPr/>
          <p:nvPr/>
        </p:nvPicPr>
        <p:blipFill>
          <a:blip r:embed="rId2"/>
          <a:stretch/>
        </p:blipFill>
        <p:spPr>
          <a:xfrm>
            <a:off x="1119240" y="1071720"/>
            <a:ext cx="7692840" cy="1298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600" y="66600"/>
            <a:ext cx="89154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MP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(S.4.5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Immagine 2" descr=""/>
          <p:cNvPicPr/>
          <p:nvPr/>
        </p:nvPicPr>
        <p:blipFill>
          <a:blip r:embed="rId1"/>
          <a:stretch/>
        </p:blipFill>
        <p:spPr>
          <a:xfrm>
            <a:off x="900000" y="1743120"/>
            <a:ext cx="8131320" cy="30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66280" y="1837800"/>
            <a:ext cx="8915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AZIE DELL’ATTENZIONE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tt. ing. Luca Ponticell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ANDO VV.F. AVELL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600" y="66240"/>
            <a:ext cx="8915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QUADRAMENTO NEL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ODIC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(G.2.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magine 1" descr=""/>
          <p:cNvPicPr/>
          <p:nvPr/>
        </p:nvPicPr>
        <p:blipFill>
          <a:blip r:embed="rId1"/>
          <a:stretch/>
        </p:blipFill>
        <p:spPr>
          <a:xfrm>
            <a:off x="1447920" y="981000"/>
            <a:ext cx="7010280" cy="48960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38" name="Rettangolo 2"/>
          <p:cNvSpPr/>
          <p:nvPr/>
        </p:nvSpPr>
        <p:spPr>
          <a:xfrm>
            <a:off x="4700520" y="3540240"/>
            <a:ext cx="1463760" cy="314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3"/>
          <p:cNvSpPr/>
          <p:nvPr/>
        </p:nvSpPr>
        <p:spPr>
          <a:xfrm rot="20472600">
            <a:off x="3551400" y="3733920"/>
            <a:ext cx="981000" cy="33948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f796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magine 4" descr=""/>
          <p:cNvPicPr/>
          <p:nvPr/>
        </p:nvPicPr>
        <p:blipFill>
          <a:blip r:embed="rId2"/>
          <a:stretch/>
        </p:blipFill>
        <p:spPr>
          <a:xfrm>
            <a:off x="1727280" y="2954160"/>
            <a:ext cx="1854000" cy="1800360"/>
          </a:xfrm>
          <a:prstGeom prst="rect">
            <a:avLst/>
          </a:prstGeom>
          <a:ln w="0">
            <a:noFill/>
          </a:ln>
        </p:spPr>
      </p:pic>
      <p:sp>
        <p:nvSpPr>
          <p:cNvPr id="141" name="CasellaDiTesto 8"/>
          <p:cNvSpPr/>
          <p:nvPr/>
        </p:nvSpPr>
        <p:spPr>
          <a:xfrm>
            <a:off x="2608200" y="4114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7600" y="66240"/>
            <a:ext cx="8915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CHE SERVONO L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ISURE ANTINCEN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Immagine 1" descr=""/>
          <p:cNvPicPr/>
          <p:nvPr/>
        </p:nvPicPr>
        <p:blipFill>
          <a:blip r:embed="rId1"/>
          <a:stretch/>
        </p:blipFill>
        <p:spPr>
          <a:xfrm>
            <a:off x="596880" y="1257480"/>
            <a:ext cx="8712360" cy="4343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44" name="CasellaDiTesto 9"/>
          <p:cNvSpPr/>
          <p:nvPr/>
        </p:nvSpPr>
        <p:spPr>
          <a:xfrm>
            <a:off x="7013520" y="5896080"/>
            <a:ext cx="29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redits: ing. Emanuele Gissi (CNVV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7600" y="66240"/>
            <a:ext cx="8915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CHE SERVE L’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SO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CasellaDiTesto 9"/>
          <p:cNvSpPr/>
          <p:nvPr/>
        </p:nvSpPr>
        <p:spPr>
          <a:xfrm>
            <a:off x="7013520" y="5896080"/>
            <a:ext cx="29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redits: ing. Emanuele Gissi (CNVV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Immagine 2" descr=""/>
          <p:cNvPicPr/>
          <p:nvPr/>
        </p:nvPicPr>
        <p:blipFill>
          <a:blip r:embed="rId1"/>
          <a:stretch/>
        </p:blipFill>
        <p:spPr>
          <a:xfrm>
            <a:off x="217440" y="1392120"/>
            <a:ext cx="9433080" cy="4015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8" name="Immagine 3" descr=""/>
          <p:cNvPicPr/>
          <p:nvPr/>
        </p:nvPicPr>
        <p:blipFill>
          <a:blip r:embed="rId2"/>
          <a:stretch/>
        </p:blipFill>
        <p:spPr>
          <a:xfrm>
            <a:off x="781200" y="4614840"/>
            <a:ext cx="525600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7600" y="66240"/>
            <a:ext cx="8915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ET &gt; RSET: IL RUOLO DELL’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SODO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(M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CasellaDiTesto 9"/>
          <p:cNvSpPr/>
          <p:nvPr/>
        </p:nvSpPr>
        <p:spPr>
          <a:xfrm>
            <a:off x="7013520" y="5896080"/>
            <a:ext cx="29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redits: ing. Emanuele Gissi (CNVV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Immagine 4" descr=""/>
          <p:cNvPicPr/>
          <p:nvPr/>
        </p:nvPicPr>
        <p:blipFill>
          <a:blip r:embed="rId1"/>
          <a:stretch/>
        </p:blipFill>
        <p:spPr>
          <a:xfrm>
            <a:off x="255600" y="1768320"/>
            <a:ext cx="9439200" cy="3011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7600" y="66240"/>
            <a:ext cx="8915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QUISITI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INIM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ER L’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SODO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(S.4.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CasellaDiTesto 5"/>
          <p:cNvSpPr/>
          <p:nvPr/>
        </p:nvSpPr>
        <p:spPr>
          <a:xfrm>
            <a:off x="425520" y="1619280"/>
            <a:ext cx="9080280" cy="36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COMPARTIMENTAZION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DELLE VIE D’ESODO VERTICALI CH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COLLEGANO COMPARTIME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al fine d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inimizzare la probabilità di ingresso degli effluenti nelle vie d’es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MENO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DU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VIE D’ESODO INDIPENDENTI PER COMPARTIMENT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ISTANTI DAL PIANO DI RIFER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al fine di garantire l’esodo dai punti più remoti delle opere da costr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in opere molto elevate o molto inter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7840" y="2241360"/>
            <a:ext cx="891540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INCIPALI NOVITÀ INTRODOTTE PE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’ESOD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NELLA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VISION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EL CODICE DI PREVENZIONE INCEN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600" y="66600"/>
            <a:ext cx="89154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M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SIBILITÀ DI UNA SOLA VIA D’ESOD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L CORRIDOIO CIECO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(S.4.8.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Immagine 1" descr=""/>
          <p:cNvPicPr/>
          <p:nvPr/>
        </p:nvPicPr>
        <p:blipFill>
          <a:blip r:embed="rId1"/>
          <a:stretch/>
        </p:blipFill>
        <p:spPr>
          <a:xfrm>
            <a:off x="2109960" y="1328760"/>
            <a:ext cx="5711760" cy="1758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57" name="Immagine 2" descr=""/>
          <p:cNvPicPr/>
          <p:nvPr/>
        </p:nvPicPr>
        <p:blipFill>
          <a:blip r:embed="rId2"/>
          <a:stretch/>
        </p:blipFill>
        <p:spPr>
          <a:xfrm>
            <a:off x="1371600" y="3576600"/>
            <a:ext cx="7188120" cy="2320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600" y="66600"/>
            <a:ext cx="89154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SIBILITÀ DI PORZIONE DI CORRIDOIO CIECO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(S.4.8.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Immagine 3" descr=""/>
          <p:cNvPicPr/>
          <p:nvPr/>
        </p:nvPicPr>
        <p:blipFill>
          <a:blip r:embed="rId1"/>
          <a:stretch/>
        </p:blipFill>
        <p:spPr>
          <a:xfrm>
            <a:off x="158760" y="1897200"/>
            <a:ext cx="5435640" cy="306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60" name="Immagine 4" descr=""/>
          <p:cNvPicPr/>
          <p:nvPr/>
        </p:nvPicPr>
        <p:blipFill>
          <a:blip r:embed="rId2"/>
          <a:stretch/>
        </p:blipFill>
        <p:spPr>
          <a:xfrm>
            <a:off x="5751360" y="1071720"/>
            <a:ext cx="3976920" cy="2552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61" name="Immagine 5" descr=""/>
          <p:cNvPicPr/>
          <p:nvPr/>
        </p:nvPicPr>
        <p:blipFill>
          <a:blip r:embed="rId3"/>
          <a:stretch/>
        </p:blipFill>
        <p:spPr>
          <a:xfrm>
            <a:off x="5751360" y="3624120"/>
            <a:ext cx="3976920" cy="24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62" name="CasellaDiTesto 5"/>
          <p:cNvSpPr/>
          <p:nvPr/>
        </p:nvSpPr>
        <p:spPr>
          <a:xfrm>
            <a:off x="158760" y="1527120"/>
            <a:ext cx="37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ORZIONE 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FIN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3:37:13Z</dcterms:created>
  <dc:creator>doriana.pome</dc:creator>
  <dc:description/>
  <dc:language>en-US</dc:language>
  <cp:lastModifiedBy>Luca Ponticelli</cp:lastModifiedBy>
  <dcterms:modified xsi:type="dcterms:W3CDTF">2019-06-19T20:51:30Z</dcterms:modified>
  <cp:revision>292</cp:revision>
  <dc:subject/>
  <dc:title>Diapositiva 1</dc:title>
</cp:coreProperties>
</file>